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DDDE-CF92-4C44-8F44-2B2D6AF57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976E-E2C8-456B-A728-B4C562C72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3-</a:t>
            </a:r>
            <a:fld id="{F9F4D48F-327F-4187-AB78-66614F2177BB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1825560"/>
            <a:ext cx="788688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, Balanced Scorecard, and Strategic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vity measures the relationship between actual inputs used and actual outputs achie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al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input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2,900,000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40 units per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Factor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all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$23,5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048936 units of output per dollar of in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2824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ivity Measur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15 - 5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447560"/>
            <a:ext cx="8298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describes how an organization matches its own capabilities with opportunities in the marketplace in order to achieve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analysis focuses on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tential entrants into the mark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2976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differentiation refers to the organization’s ability to make its products or services uniq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leadership occurs when the organization is able to reduce costs, relative to competitors, through productivity and efficiency improvemen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Balanced Scorecard translates an organization’s mission and strategy into a comprehensive set of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 provide feedback on how well the organization is implementing it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emphasis on short-term financial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Elements of the Balanced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business process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rning and grow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3 - 49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rg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j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asur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al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ain in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520,0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 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4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ew customer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7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tern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8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9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n-time delive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rning &amp;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s train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# of improvemen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057400"/>
            <a:ext cx="8763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atures of a Good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lls the story of the company’s strategy by articulating a sequence of cause-effect relationshi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elps communicate the strategy to all members of the organization by translating the strategy into a coherent and linked set of understandable targe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profit-seeking companies, places strong emphasis on financial measures and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s the number of measures used by identifying only the most critical on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lights suboptimal tradeoffs that managers may make when they tail to consider operational and financial measures toge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8 -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tfalls Implementing a Balanced Scorec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24080"/>
            <a:ext cx="8001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assume the cause-and-effect linkages to be pre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seek improvements across all measures all the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use only objective measures on the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fail to consider both costs and benefits of initia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ignore non-financial measures when evaluating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gineered and Discretionar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er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 specifically from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cretionar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which arise from a periodic appropriation dec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ck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, executive training, R&amp;D, public re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98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er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scretiona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o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tailed an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nowledge of th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hysical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is sketch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serv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unavail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peti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repetitiv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vel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rat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r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certain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smal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ownsizing (or rightsizing) is process of matching resources with current and future need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ifficult for discretionary costs as ideal amount is unknown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wnsizing and Capacit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1981080"/>
            <a:ext cx="5638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07 - 5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0:46:04Z</dcterms:created>
  <dc:creator>User</dc:creator>
  <dc:description/>
  <dc:language>en-US</dc:language>
  <cp:lastModifiedBy>John Moore</cp:lastModifiedBy>
  <dcterms:modified xsi:type="dcterms:W3CDTF">2003-03-22T13:17:37Z</dcterms:modified>
  <cp:revision>14</cp:revision>
  <dc:subject/>
  <dc:title>Strategic Profitability Analysis</dc:title>
</cp:coreProperties>
</file>